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A68-5F19-4E32-96AA-2A96EF7B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590-01D0-4C69-8773-3AC67DD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B4B-B8C2-44D8-8BA1-93BA2C76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B73-BEB3-4720-815F-96BC2390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501-2BD4-492F-9D9A-61AEEE61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4CA5-FCA0-478D-9352-024F935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5607-80CE-42E7-8D58-1CA380D7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07C8-3267-41BA-94FA-6BDF18A7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6A6A-1191-4900-850F-7F35E8A0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94B0-5E5D-4FBF-94EB-91003F0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A1FD-B5D6-49F7-BD6D-75A637C4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D99-2CB3-4600-B97A-3C051E4B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FEE5-89BF-43F3-93CC-F4DCC109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556F-40C7-4669-93E5-9890EB6F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2B86-430B-4A98-B2D6-C1078FF5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7B55-2DB6-48AC-94CB-6EE35F40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26A-AA9B-46FB-9264-53FC8451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534-F621-4024-BAF7-941BC702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9A4-53A2-44E4-84EC-AE013C85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06-6B7C-4E50-A5B5-E5A01931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4A1-D847-4D75-BF9F-71DA9B2F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75-E1C7-416D-B90B-BA6E31A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457-64F6-4B89-8ABF-5E0CC6E1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CF2-108E-48AA-9ACD-C5A04D5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56A-354C-46FC-8537-0B39B3C6928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0DE-75EA-45C3-BBA2-03DE5EADEC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5f71"/>
                </a:solidFill>
                <a:latin typeface="Book Antiqua"/>
              </a:rPr>
              <a:t>A metasearch engine: your search query is sent to several search engines at one time and the results are integrated into one lis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arch.com save your top search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ree search softwa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vance searc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rec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feren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l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20869" t="26156" r="20869" b="44616"/>
          <a:stretch/>
        </p:blipFill>
        <p:spPr>
          <a:xfrm>
            <a:off x="1447920" y="1752480"/>
            <a:ext cx="594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rcRect l="0" t="0" r="26941" b="51452"/>
          <a:stretch/>
        </p:blipFill>
        <p:spPr>
          <a:xfrm>
            <a:off x="228600" y="1295280"/>
            <a:ext cx="458640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343400" y="4191120"/>
            <a:ext cx="4800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047760" cy="320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3505320" cy="312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12408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4876920" y="3581280"/>
            <a:ext cx="35049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800" y="707400"/>
            <a:ext cx="5486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34800" y="1047600"/>
            <a:ext cx="4376880" cy="366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rcRect l="0" t="12953" r="11291" b="7500"/>
          <a:stretch/>
        </p:blipFill>
        <p:spPr>
          <a:xfrm>
            <a:off x="4648320" y="1219320"/>
            <a:ext cx="4190760" cy="312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rcRect l="20692" t="24242" r="22415" b="12121"/>
          <a:stretch/>
        </p:blipFill>
        <p:spPr>
          <a:xfrm>
            <a:off x="228600" y="441972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rcRect l="21430" t="23686" r="21430" b="7894"/>
          <a:stretch/>
        </p:blipFill>
        <p:spPr>
          <a:xfrm>
            <a:off x="4648320" y="4419720"/>
            <a:ext cx="4267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31:44Z</dcterms:created>
  <dc:creator>ccstudent</dc:creator>
  <dc:description/>
  <dc:language>en-US</dc:language>
  <cp:lastModifiedBy>ccstudent</cp:lastModifiedBy>
  <dcterms:modified xsi:type="dcterms:W3CDTF">2011-02-06T18:04:51Z</dcterms:modified>
  <cp:revision>4</cp:revision>
  <dc:subject/>
  <dc:title>Search.com</dc:title>
</cp:coreProperties>
</file>